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92203-5C12-48CC-A044-526EAB613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084B0-89CA-4139-955A-42A53E4D9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98DC4-4DDD-45EE-945A-AF9DCA857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6D545-4C73-4A5D-BA5A-7DAA490AB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618CD-56FD-47A6-B29F-A59606E25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E087F-4535-414F-B50A-CF44D59DD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6F39A-3FB3-49CE-B43B-C871B5A31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AB570-3DCE-47E2-A76A-1EF520272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2F1CA-ABAE-44B8-9D96-4598CFAED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42D7F-38A5-43DC-80C7-FD4782C6D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846C2-3F5E-4E0C-B3AA-73310D5CF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0CE30-1721-4977-B9C5-F55CFCF15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37A9F-B766-4133-B2CA-4EF9124E7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165DB-A51F-44AE-AF00-3648CB415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0B3F4-561D-4D8A-A979-E74106C76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47148-0331-4A1C-B620-22BF6E329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6F8B6-3D6B-42E4-9CC7-6EFDE2BF9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3949F-7FCE-4314-B455-384F45D79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97BAA-06AD-4FA4-AC70-21991633F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83F35-AAE0-455E-B836-8ECD687BF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1EFA0-E029-44E4-9E31-C86387A52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E692-938B-41BD-8A02-801621B8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685F8-8F35-44D7-986E-C8E4296AA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F081-DDA2-4546-BE7C-790898A2D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8751-190E-4FAE-A1E9-4857CDAEC4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E628-103B-4730-9AC0-D34CE197BD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ference</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Reading Between the Li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ere’s the rest of the song. How has the singer’s mood changed?</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I hear you at the door,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 running toward the door.</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see how you make inferences, but you may have to change them as you gather more inform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120" y="762120"/>
            <a:ext cx="8077320" cy="53640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nnie raced past the Haunted Village, dashed across the food court, and elbowed her way urgently through the crowded walkway. Just in time, she darted under the rope and tore around the side of the ride.</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s going on with Annie? Why is she behaving like th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rest of the story . . .</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ff"/>
                </a:solidFill>
                <a:latin typeface="Tahoma"/>
              </a:rPr>
              <a:t>Thanks for saving my place!” she panted as she scrambled into the front car of the roller coaster.</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you infer correctly? Confirm or change your idea.</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hints did the author give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ir/Share Steps</a:t>
            </a: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A has one minute to share the spot they marked and explain how they inferred something from the information. Partner B listens.</a:t>
            </a:r>
            <a:endParaRPr b="0" lang="en-US" sz="2800" spc="-1" strike="noStrike">
              <a:solidFill>
                <a:srgbClr val="ffffff"/>
              </a:solidFill>
              <a:latin typeface="Tahoma"/>
            </a:endParaRPr>
          </a:p>
          <a:p>
            <a:pPr marL="315360" indent="-3153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B has one minute to repeat what partner A has said and ask questions.</a:t>
            </a:r>
            <a:endParaRPr b="0" lang="en-US" sz="2800" spc="-1" strike="noStrike">
              <a:solidFill>
                <a:srgbClr val="ffffff"/>
              </a:solidFill>
              <a:latin typeface="Tahoma"/>
            </a:endParaRPr>
          </a:p>
          <a:p>
            <a:pPr marL="315360" indent="-3153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B has one minute to share what they marked while partner A listens.</a:t>
            </a:r>
            <a:endParaRPr b="0" lang="en-US" sz="2800" spc="-1" strike="noStrike">
              <a:solidFill>
                <a:srgbClr val="ffffff"/>
              </a:solidFill>
              <a:latin typeface="Tahoma"/>
            </a:endParaRPr>
          </a:p>
          <a:p>
            <a:pPr marL="315360" indent="-3153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A has one minute to repeat what partner B has said and ask ques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762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0" lang="en-US" sz="3600" spc="-1" strike="noStrike">
                <a:solidFill>
                  <a:srgbClr val="e5ffff"/>
                </a:solidFill>
                <a:latin typeface="Tahoma"/>
              </a:rPr>
              <a:t>In your reading today, you are to look for a spot where you have to make an inference. It might include a description of a person or place. It might give you clues with a character’s behavior or the weather. It might be the words a character speaks. When you find the spot, mark it with a sticky note; you will be sharing this during pair/share.</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30592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en you look at this lady, what can you tell me about the way she feels? </a:t>
            </a:r>
            <a:endParaRPr b="0" lang="en-US" sz="4000" spc="-1" strike="noStrike">
              <a:solidFill>
                <a:srgbClr val="e5ffff"/>
              </a:solidFill>
              <a:latin typeface="Tahoma"/>
            </a:endParaRPr>
          </a:p>
        </p:txBody>
      </p:sp>
      <p:pic>
        <p:nvPicPr>
          <p:cNvPr id="85" name="" descr=""/>
          <p:cNvPicPr/>
          <p:nvPr/>
        </p:nvPicPr>
        <p:blipFill>
          <a:blip r:embed="rId2"/>
          <a:stretch/>
        </p:blipFill>
        <p:spPr>
          <a:xfrm>
            <a:off x="2514600" y="2286000"/>
            <a:ext cx="4038480" cy="3465360"/>
          </a:xfrm>
          <a:prstGeom prst="rect">
            <a:avLst/>
          </a:prstGeom>
          <a:ln w="0">
            <a:noFill/>
          </a:ln>
        </p:spPr>
      </p:pic>
      <p:sp>
        <p:nvSpPr>
          <p:cNvPr id="86" name=""/>
          <p:cNvSpPr/>
          <p:nvPr/>
        </p:nvSpPr>
        <p:spPr>
          <a:xfrm>
            <a:off x="533520" y="5867280"/>
            <a:ext cx="845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at clues make you feel this wa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838080" y="1143000"/>
            <a:ext cx="4105440" cy="4495680"/>
          </a:xfrm>
          <a:prstGeom prst="rect">
            <a:avLst/>
          </a:prstGeom>
          <a:ln w="0">
            <a:noFill/>
          </a:ln>
        </p:spPr>
      </p:pic>
      <p:sp>
        <p:nvSpPr>
          <p:cNvPr id="88" name=""/>
          <p:cNvSpPr/>
          <p:nvPr/>
        </p:nvSpPr>
        <p:spPr>
          <a:xfrm>
            <a:off x="5257800" y="1219320"/>
            <a:ext cx="34290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this house make you feel?</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What hints do you hav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teven has checked these books out from the library. What kind of books do you think Steven likes? Why? What makes you think this?</a:t>
            </a:r>
            <a:endParaRPr b="0" lang="en-US" sz="4000" spc="-1" strike="noStrike">
              <a:solidFill>
                <a:srgbClr val="e5ffff"/>
              </a:solidFill>
              <a:latin typeface="Tahoma"/>
            </a:endParaRPr>
          </a:p>
        </p:txBody>
      </p:sp>
      <p:pic>
        <p:nvPicPr>
          <p:cNvPr id="90" name="" descr=""/>
          <p:cNvPicPr/>
          <p:nvPr/>
        </p:nvPicPr>
        <p:blipFill>
          <a:blip r:embed="rId2"/>
          <a:stretch/>
        </p:blipFill>
        <p:spPr>
          <a:xfrm>
            <a:off x="2514600" y="2590920"/>
            <a:ext cx="4572000" cy="388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456840"/>
            <a:ext cx="8305920" cy="5668920"/>
          </a:xfrm>
          <a:prstGeom prst="rect">
            <a:avLst/>
          </a:prstGeom>
          <a:noFill/>
          <a:ln w="0">
            <a:noFill/>
          </a:ln>
        </p:spPr>
        <p:txBody>
          <a:bodyPr lIns="90000" rIns="90000" tIns="46800" bIns="46800" anchor="t">
            <a:normAutofit fontScale="94000"/>
          </a:bodyPr>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I explored the sunken ship</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lash of silver caught my eye –</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linky shark was sneaking by,</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reature thrice as big as I,</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reature looking mean and sly.</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morning I can testify</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rusty, rusty sunken ship</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ore’s the highlight of my trip.</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does the author mean the ship is no longer the highlight of his/her trip? How did he/she feel about seeing a sh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8305920" cy="58672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n June 12, 1979, a man named Bryan Allen did something no one had ever done before. He pedaled an aircraft across the English Channel. The craft, called the Gossamer Albatross, looked like a bicycle with wings and weighed 75 pounds. During the 35 km trip from England to France, Bryan had to pedal non-stop to keep the craft several feet above the surface of the water.</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were to guess what kind of person Bryan Allen is, what would you say? What hints in the story make you think thi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560" y="456840"/>
            <a:ext cx="8381880" cy="5668920"/>
          </a:xfrm>
          <a:prstGeom prst="rect">
            <a:avLst/>
          </a:prstGeom>
          <a:noFill/>
          <a:ln w="0">
            <a:noFill/>
          </a:ln>
        </p:spPr>
        <p:txBody>
          <a:bodyPr lIns="90000" rIns="90000" tIns="46800" bIns="46800"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usan recently started taking skydiving lessons. She has been reading, studying, and watching videos to prepare for her first jump. Today at school, her friend Dana notices that Susan is very distracted and fidgety. Dana is surprised to see that Susan has become a nail-biter all of a sudden.</a:t>
            </a:r>
            <a:endParaRPr b="0" lang="en-US" sz="3200" spc="-1" strike="noStrike">
              <a:solidFill>
                <a:srgbClr val="ffffff"/>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oing on with Susan? Why might she be showing these behaviors? What key words help you figure out how Susan is feel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an’s friend is surprised to learn that Susan will do her first jump this afterno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re you on the right tra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5ffff"/>
                </a:solidFill>
                <a:latin typeface="Tahoma"/>
              </a:rPr>
              <a:t>Read the following song lyrics. Describe the mood of the singer.</a:t>
            </a:r>
            <a:endParaRPr b="0" lang="en-US" sz="4000" spc="-1" strike="noStrike">
              <a:solidFill>
                <a:srgbClr val="e5ffff"/>
              </a:solidFill>
              <a:latin typeface="Tahoma"/>
            </a:endParaRPr>
          </a:p>
        </p:txBody>
      </p:sp>
      <p:sp>
        <p:nvSpPr>
          <p:cNvPr id="96" name="PlaceHolder 2"/>
          <p:cNvSpPr>
            <a:spLocks noGrp="1"/>
          </p:cNvSpPr>
          <p:nvPr>
            <p:ph/>
          </p:nvPr>
        </p:nvSpPr>
        <p:spPr>
          <a:xfrm>
            <a:off x="457200" y="2464920"/>
            <a:ext cx="8229600" cy="36306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alk around the house to find</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boots aren’t on the floor.</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earch the basement and garag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cts I can’t ignor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clothes are gone, your car is gon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e just not at the stor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cry because you left 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03:18:17Z</dcterms:created>
  <dc:creator>sadams</dc:creator>
  <dc:description/>
  <dc:language>en-US</dc:language>
  <cp:lastModifiedBy>MACS MACS</cp:lastModifiedBy>
  <cp:lastPrinted>2008-12-01T23:08:24Z</cp:lastPrinted>
  <dcterms:modified xsi:type="dcterms:W3CDTF">2009-01-20T17:35:31Z</dcterms:modified>
  <cp:revision>6</cp:revision>
  <dc:subject/>
  <dc:title>Inference</dc:title>
</cp:coreProperties>
</file>